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B03-42F5-441B-B2B2-8414988E9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206-DFC5-4D90-8D10-65E07AA32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357-DB5E-4FBA-A87B-478E5A28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E31-E19A-4965-8D7D-795B527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F29-78D8-48D5-AD20-074B20B6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44B-F4CA-4B19-ACCD-95AB3C40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87F-7217-4198-A618-BCD552AF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75A-3D67-4825-B08D-25A50D57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ED9-337A-4A80-9CF6-DFC9C31C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A5A-3D1A-471A-9DEC-C467229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B20-FB02-484E-B1BD-E14BCB5F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773-FA05-40FC-8B20-85F42C9C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783-744E-4294-BE93-5965A99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937-99E5-4E10-82A6-85AE7DE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3F4F-0CD5-493F-A039-14C61A8A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нимание содержания деятельности апробационных площадок ФГОС ООО в Пермском крае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51814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изова О.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апробационной деятельности в Пермском кр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" y="1447560"/>
            <a:ext cx="8763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щивание и развитие в ОУ края инновационной образовательной практики, отражающей теоретические положения нового стандарта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условий внедрения стандар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едовательно, по итогам работы региональные площадки должны будут показать иную образовательную действительность, обеспечивающую формирование  нового образовательного результ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ханизм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1920" y="837720"/>
            <a:ext cx="8534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 образовательным учреждением элементов инновационного образовательного процесса, направленного на достижение нового образовательного результ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ло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стичность масштаба апробации , ход от частного к общему, постепенное наращивание изменен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апробационной площадки, бон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у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робационной площадки присваивается приказом министерства образования Пермского края на основании представления муниципальных управлений образ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с апробационной площадки присваивается на период реализации программы апробацио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ну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о-методическое сопровождение (групповые фор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горизонтальной коммуникации  (общение среди инновационных шк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етение опыта реализации отдельных аспектов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пектива становления ресурсным центром муниципалитета,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получения статуса инновационной площадки ЦРО П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ственность апробационных площ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76212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ационные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уют свою деятельность, при необходимости привлекая научных руководителей, консульта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т программу апробационн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ют мониторинг реализации проекта (програм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ют на сайте ЦРО ПК и сайте школы информацию о содержании, ходе, результатах своей апробационной деятельности, продукты апробации; реализации инновационного образовательного проекта (програм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001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ство деятельностью апробационных площадок на краев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536480"/>
            <a:ext cx="8382240" cy="49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руководство деятельностью апробационных площадок осуществляет координационный совет при министерстве образования Перм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ирование  деятельности апробационных площадок  осуществляет Ресурсный центр на базе ЦРО ПК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вает  информационное сопровождение деятельности АП (сайт, информационные пись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атывает нормативную базу деятельности АП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ординирует деятельность операторов н.-м. сопровождения А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леживает, анализирует  ход и результаты апроб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 краевые мероприятия н.-м. сопровождения введения ФГ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н.-м. сопровождение деятельности АП по отдельным напра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001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РО: заказ министерства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713880"/>
            <a:ext cx="8715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опровождение деятельности АП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организация работы сайта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доработка и повторная экспертиза программ АД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 сопровождение деятельности АП по содержательным направлениям или организация внедрения отдельных элементов образовательной деятельности, адекватных ФГОС ООО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ОЕКТ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опровождение деятельности методических служб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 разработка моделей методического сопровождения (рекомендаций по выстраиванию системы метод. сопровождения) в муниципалитетах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 разработка процедуры, критериев анализа программ метод. сопровождения подготовки к введению ФГОС на муниципальном уровне, проведение анализ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 Информационное сопровождение подготовки к введению ФГОС (сайт, конференц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: воспитание и 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Э.С. Копы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жидаемые 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дходы к построению внеурочного образовательного пространства новой мод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ивные задания, ориентированные на формирование регулятивных и коммуникативных УУД и их применение в образовательном проце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образовательной деятельности и системы оценивания  освоения 5-классниками отдельных социальных р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матические сетевые семинары, разработка материалов, консуль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79246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ект: «Проектирование основной образовательной программы основного общего образования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евой и организационный раздел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7524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А.Ф. Фая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реализации основной образовательной программы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предметные результаты освоения ООП ООО и оценка их достижения на институциональ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ая и исследовательская деятельность учащихся основ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матические семинары, консуль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: «Особенности преподавания учебных предметов и оценивания образовательных результатов в контексте требований ФГОС ОО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А.А. Аку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жидаемые проду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ы рабочих учебных программ по математике, физике, химии, биологии, географии, истории и обществознанию, русскому языку и литературе; дидактические материалы  для достижения и оценки метапредметных результатов обучения в сфере практического освоения методов познавательной деятель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матические семинары, разработка материалов, консуль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: «ЗО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Н.В. Ляд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жидаемые продук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Критерии оценки сформированости личностных, метапредметных и предметных результатов в части готовности к ведению ЗОЖ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Требования и методические рекомендации по разработке и реализации подпрограммы формирования культуры здорового и безопасного образа жизни у обучающихся основной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одпрограммы формирования культуры здорового и безопасного образа жизни с учетом опыта работы педагогического коллектива, учителей по здоровьесбережению и ресурсной базы учреж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семинары, разработка материалов, консультир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ГОС  как артефакт парадигмального сдв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– это институт воспроизводства культуры, институт  социализаци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общество, такое и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яется общество – изменяется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76960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: «Формирование и оценка сформированности УУД: формулирование проблемы, формулирование познавательной цели, поиск и выделение информации, самостоятельное создание способов решения проблем творческого и поискового характе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 В.Н. Павелк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жидаемые продук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оценки сформированности данных УУД, апробация эт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разработка по теме «Формирование и оценка сформированности следующих УУД: формулирование проблемы, формулирование познавательной цели, поиск и выделение информации, самостоятельное создание способов решения проблем творческого и поискового характер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ормы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семинары, в т.ч. на базе ОУ, разработка материалов, консультир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торая половина 20 века – начало 21 века – переход от индустриального к постиндустриальному обществу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758880"/>
          <a:ext cx="8915400" cy="5565600"/>
        </p:xfrm>
        <a:graphic>
          <a:graphicData uri="http://schemas.openxmlformats.org/drawingml/2006/table">
            <a:tbl>
              <a:tblPr/>
              <a:tblGrid>
                <a:gridCol w="3565440"/>
                <a:gridCol w="5349960"/>
              </a:tblGrid>
              <a:tr h="3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стриальное 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дустриальное об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, поточное материальное производство, специ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имущественное производство услуг,  основной ресурс – информация и знания, компетентность, обучае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ация, центр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централизация, горизонтальные связи,  коммун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тизация, ун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изация, плюрал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е, честность и порядочность, здоровье, государственные, национальные интере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ность, саморазвитие,  выбор, самоопределение, свобода, права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ал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made man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У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тенции, универсальные учеб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о-урочная сис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ый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ГОС: новые образовательные результаты, обеспечивающие социализацию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2209320"/>
            <a:ext cx="80773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ускник школы должен быть способен к активному действию в современной социаль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ть свои интересы, ставить це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нимать решения и отвечать за свои реш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ировать собственное вре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ть договариваться, организовывать коммуникацию в соответствии с собственными ц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ировать системы знаний, создавать модели, преобразовывать информацию в соответствии с задачами образовательной, профессиональной деятельности и повседневной  жи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я в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7621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образов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ая система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содержание  (деятельность учащихс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орг- содержательные формы (соц. практики,  проф.пробы, краткосрочные курсы…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формы организации (ИУП, потоки, учебные группы,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условия (ГОУ, взаимодействие с родителями, открытое образование, информационные, МТБ 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4"/>
          <p:cNvSpPr/>
          <p:nvPr/>
        </p:nvSpPr>
        <p:spPr>
          <a:xfrm>
            <a:off x="3352680" y="1143000"/>
            <a:ext cx="9414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5"/>
          <p:cNvSpPr/>
          <p:nvPr/>
        </p:nvSpPr>
        <p:spPr>
          <a:xfrm>
            <a:off x="3352680" y="2057400"/>
            <a:ext cx="9414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6"/>
          <p:cNvSpPr/>
          <p:nvPr/>
        </p:nvSpPr>
        <p:spPr>
          <a:xfrm>
            <a:off x="3352680" y="3048120"/>
            <a:ext cx="9414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7"/>
          <p:cNvSpPr/>
          <p:nvPr/>
        </p:nvSpPr>
        <p:spPr>
          <a:xfrm>
            <a:off x="3352680" y="4191120"/>
            <a:ext cx="9414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8"/>
          <p:cNvSpPr/>
          <p:nvPr/>
        </p:nvSpPr>
        <p:spPr>
          <a:xfrm>
            <a:off x="3352680" y="5257800"/>
            <a:ext cx="941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1151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ГОС как рамка, определяющая содержание деятельности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295280"/>
            <a:ext cx="83343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верх 3"/>
          <p:cNvSpPr/>
          <p:nvPr/>
        </p:nvSpPr>
        <p:spPr>
          <a:xfrm>
            <a:off x="2143080" y="53578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верх 4"/>
          <p:cNvSpPr/>
          <p:nvPr/>
        </p:nvSpPr>
        <p:spPr>
          <a:xfrm>
            <a:off x="2928960" y="53578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верх 9"/>
          <p:cNvSpPr/>
          <p:nvPr/>
        </p:nvSpPr>
        <p:spPr>
          <a:xfrm>
            <a:off x="3643200" y="53578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1"/>
          <p:cNvSpPr/>
          <p:nvPr/>
        </p:nvSpPr>
        <p:spPr>
          <a:xfrm>
            <a:off x="4357800" y="53578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верх 12"/>
          <p:cNvSpPr/>
          <p:nvPr/>
        </p:nvSpPr>
        <p:spPr>
          <a:xfrm>
            <a:off x="5072040" y="53578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верх 14"/>
          <p:cNvSpPr/>
          <p:nvPr/>
        </p:nvSpPr>
        <p:spPr>
          <a:xfrm>
            <a:off x="5715000" y="53578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6643800" y="4429080"/>
            <a:ext cx="2071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У определяют «свой маневр», определяет «свое» содержа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Стрелка вниз 16"/>
          <p:cNvGrpSpPr/>
          <p:nvPr/>
        </p:nvGrpSpPr>
        <p:grpSpPr>
          <a:xfrm>
            <a:off x="2876400" y="2541600"/>
            <a:ext cx="2665440" cy="3560760"/>
            <a:chOff x="2876400" y="2541600"/>
            <a:chExt cx="2665440" cy="3560760"/>
          </a:xfrm>
        </p:grpSpPr>
        <p:pic>
          <p:nvPicPr>
            <p:cNvPr id="73" name="Стрелка вниз 16" descr=""/>
            <p:cNvPicPr/>
            <p:nvPr/>
          </p:nvPicPr>
          <p:blipFill>
            <a:blip r:embed="rId1"/>
            <a:stretch/>
          </p:blipFill>
          <p:spPr>
            <a:xfrm>
              <a:off x="2876400" y="2541600"/>
              <a:ext cx="266544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571920" y="2571840"/>
              <a:ext cx="128592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Прямоугольник 17"/>
          <p:cNvSpPr/>
          <p:nvPr/>
        </p:nvSpPr>
        <p:spPr>
          <a:xfrm>
            <a:off x="6429240" y="1785960"/>
            <a:ext cx="2071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о предъявляет свой заказ к образованию : 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невр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1214280"/>
            <a:ext cx="8400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задает «рамку- ожидания» - общие требования к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жидаемым результата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общими «мазками» (например, перечень УУД, предметных результатов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ому процесс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 виде инвариантных компонентов (например, задает какие подпрограммы д.б. в ООП школы: программа коррекционного образования, предпрофильной подготовки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словиям реализации 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МТБ, САНПИН, НПФ, НСОТ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словиям построения системы оцени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ов (принципы УКО 9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задает механизмы, способствующие достижению желаемого результата,  в т.ч.стимулирует лучш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анализирует ситуацию, экспертирует, оценивает  выполнение треб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1867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невр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120" y="107172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«Считывает» социальный заказ со стороны своего социокультурного окружен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конкретизирует ожидаемые результаты для своего ОУ (ФГОС/соцзаказ, вкл. «заказ» учеников и родителей/возможности  и желания свои, возможности учеников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проектирует  свой процесс (оргмодель, содержание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проектирует свою процедуру оцениван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оценивает достижение ожидаемых результа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невр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1071720"/>
            <a:ext cx="8258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екомпозирует ожидаемые результаты в применении к совей програм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оектирует  свой процесс (оргмодель, содержание), в т.ч. создает нов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оектирует свою процедуру оцени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ценивает достижение ожидаемых результа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3-03-19T10:52:0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